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ct" ContentType="image/x-pict"/>
  <Override PartName="/ppt/media/image6.png" ContentType="image/png"/>
  <Override PartName="/ppt/media/image11.png" ContentType="image/png"/>
  <Override PartName="/ppt/media/image4.png" ContentType="image/png"/>
  <Override PartName="/ppt/media/image7.png" ContentType="image/png"/>
  <Override PartName="/ppt/media/image8.png" ContentType="image/png"/>
  <Override PartName="/ppt/media/image13.png" ContentType="image/png"/>
  <Override PartName="/ppt/media/image12.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0295-749E-4E0F-99D7-D74D40EC3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2B65-891F-42B6-B664-BACED96D0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creation/evolution problem. Then move on to the next slide. Will come back to this problem throughout the presentation and ask for your feedback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Patricia M. King</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Associate Professor/Chair of Dept. of Higher Education @ Bowling Green State University.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Professor of Higher Education @ U-Michiga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Karen Strohm Kitchener</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Professor in Morgridge College of Education / Director of Counseling , University of Denver.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retired 2005</a:t>
            </a: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A2CB-E785-45CD-88D4-D48C204B7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epitome of cognitive simp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13CF-3F26-430A-8C09-66584C88F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from a TRUSTED authority, it’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ght” and “wrong” = advancement from Stag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resentational mapping skill” - ability to differentiate b/t Stage1 categories + ability to relate ‘em to each other. Therefore can differentiate right from wrong answers &amp; authorities. (and attribute one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more “dogmatic”, than “naï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94C1-F277-4125-8575-74B8BA71B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vs. Bible: “if the latter is correct, the former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96B0-A4EE-4333-A497-3A458D2CD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what feels right” =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s this continues to be challenged, w/ more diverse views, Stage 4 is encouraged</a:t>
            </a:r>
            <a:r>
              <a:rPr b="0" i="1" lang="en-US" sz="1200" spc="-1" strike="noStrike">
                <a:solidFill>
                  <a:srgbClr val="000000"/>
                </a:solidFill>
                <a:latin typeface="Lucida Grande"/>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CCA0-485A-477F-89DC-AC3A645B1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9CC5-0F35-4AE1-941F-55CFFF018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8EC3-6F77-475F-9E30-AE7708142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at it’s not certain = advancement over St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 idiosyncratic to the individual-- Neither evidence nor its evaluation = certain; therefore it’s up to the individual’s idiosyncra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ere don’t reason that evidence entails a conclusion, therefore personal beliefs --&gt; choose evidence, to support preconceived beli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d w/ inherent contradictions in their own thinking; </a:t>
            </a:r>
            <a:r>
              <a:rPr b="0" i="1" lang="en-US" sz="1200" spc="-1" strike="noStrike">
                <a:solidFill>
                  <a:srgbClr val="000000"/>
                </a:solidFill>
                <a:latin typeface="Times New Roman"/>
              </a:rPr>
              <a:t>Stage 5 helps to resolve the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DBB1-BC6A-4845-AA9D-7045D0AEF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2455-D13E-476F-87FE-5895D76C8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mapping” - relating two abstractions: contrasting --&gt; further differentiation from each other; comparing --&gt; integrated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roader connected views” = not constrained by idiosyncratic justifications of St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missing is the ability to compare &amp; contrast evidence across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5 is nice… but doesn’t </a:t>
            </a:r>
            <a:r>
              <a:rPr b="1" i="1" lang="en-US" sz="1200" spc="-1" strike="noStrike">
                <a:solidFill>
                  <a:srgbClr val="000000"/>
                </a:solidFill>
                <a:latin typeface="Times New Roman"/>
              </a:rPr>
              <a:t>SOLVE </a:t>
            </a: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C22F-8B71-4802-83E2-701B11BEB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523B-E2D7-4A83-87CE-2CAC28F95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wey! (1933, 1938) - “one of the earliest expositions of reflective thinking”.  “…his astute observation that uncertainty is a characteristic of the search for knowledge.” (p.1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C9C1-DC9D-4482-86B8-C3BF7C57D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73BA-1490-4B4C-8EAC-E4F43F0C9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ing” = process; no longer a spectator</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ledge is uncertain”: </a:t>
            </a:r>
            <a:r>
              <a:rPr b="0" lang="en-US" sz="1300" spc="-1" strike="noStrike">
                <a:solidFill>
                  <a:srgbClr val="ffffff"/>
                </a:solidFill>
                <a:latin typeface="Arial"/>
              </a:rPr>
              <a:t>must be understood w/ relation to context &amp; evidence</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 view may be better”: the other = less compelling, less evidence, less appropriat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iteria” = weight of evidence, utility of solution, pragmatic need for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stem of knowing”: comparisons/conclusions are embedded, so conclusions remain limited &amp; situational</a:t>
            </a:r>
            <a:endParaRPr b="0" lang="en-US" sz="12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UT - still fail to understand the larger system of knowing…</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STAGE 7,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6A3-A177-4C4E-BC03-4F3891E84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3186-5A9C-4457-8203-0F509070C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internal referents”: used to judge problems &amp; reintegrated into a general principle ; CRITICAL INQUIRY. “that which best fits the evidence as I know it.”, “that which is discrepant from generally observ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nthesized”: into epistemically justifiable conjectures re: nature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ment over Stage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elligent, reflectiv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ividuality, constrained by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illingness to critique one’s own reas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PERRY (1970), &amp; “commitment to relativism”, “the idea of being committed to a point of view does NOT fit here, given the assumptions that all conclusions are open to reevaluation based on new info or interpreta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995D-F9FB-4306-892C-8373D079C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99FC-C3F2-4F8A-88C7-5A5676BA2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8257-DE0E-415A-8DA2-50B7152DE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5B7F-DED9-4D9A-AA42-D6E84C6FC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835B-101D-4E98-8AF2-24E3534FA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tudent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ES: p. 1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D656-CE6D-4C04-BCC8-B9C3ED5B0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6F33-A25F-4BFF-93F8-744748608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CF19-0C8F-420E-8365-5502B3C8B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oss-cultural”: </a:t>
            </a:r>
            <a:r>
              <a:rPr b="0" lang="en-US" sz="3600" spc="-1" strike="noStrike">
                <a:solidFill>
                  <a:srgbClr val="ffffff"/>
                </a:solidFill>
                <a:latin typeface="Arial"/>
              </a:rPr>
              <a:t>Religion, race/ethnicity, language…</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  scores are by age and/or group (eg. HS/BA/grad student)-- what about location/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7095-F0D9-4F21-B80D-28CC1169B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13B7-BEC3-4C7F-9FA9-484704EAD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 (psychologists, IR, fac’t/stud. aff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8EF-C2E3-4252-9337-540DC5465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846D-1612-42D7-90C9-C0B794185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use one from list - “religion/evolution” #3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710D-EE97-4E58-99C4-DDE8D1ACB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C9C9-0335-4B70-AFF5-2F71C337F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CC44-8C5B-4F63-A82A-EC90BA42D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gt; but is there a “typical” student?  eg. </a:t>
            </a:r>
            <a:r>
              <a:rPr b="0" i="1" lang="en-US" sz="1200" spc="-1" strike="noStrike">
                <a:solidFill>
                  <a:srgbClr val="000000"/>
                </a:solidFill>
                <a:latin typeface="Times New Roman"/>
              </a:rPr>
              <a:t>IDENTITY!</a:t>
            </a:r>
            <a:r>
              <a:rPr b="0" lang="en-US" sz="1200" spc="-1" strike="noStrike">
                <a:solidFill>
                  <a:srgbClr val="000000"/>
                </a:solidFill>
                <a:latin typeface="Times New Roman"/>
              </a:rPr>
              <a:t>  … we’ll get to that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1707-606A-4C26-8A4E-7ED4A2D8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or instance, by evaluation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y know is absolutely correct, and they know with complete 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blems treated as well-structu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7378-8DF7-474F-83F8-D12BE6F0D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r>
              <a:rPr b="0" i="1" lang="en-US" sz="800" spc="-1" strike="noStrike">
                <a:solidFill>
                  <a:srgbClr val="000000"/>
                </a:solidFill>
                <a:latin typeface="Times New Roman"/>
              </a:rPr>
              <a:t>single representational skill”: ability to use single, undifferentiated concrete categories--and coz it’s concrete, you can’t relate two diff. views of the same issu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no one was a “pure Stage 1” - not even HS frosh in lower academic 1/3 of cla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eeking answers--even from authorities--forces one out of Stage 1</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6A4E5-C11E-4B56-8742-B4D29E18C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2CBCB-389F-4EE2-816B-E199CABA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3A14D-4A2F-422D-A8D6-EF87D6226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A682D-7E8D-4D6B-AEE8-01A09247F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076A-5297-4303-A0A1-B73E3D3E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E63DB-6968-432D-A222-ACEC8ADEF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FE2DF-79E6-48CE-8244-9F5B5DE9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42CA-9502-4995-91A5-6A2727B1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47F60-6F7E-4967-9C78-09C06282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0B11-04D3-4938-9BC9-E567DFDE1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63C7-EC46-41AA-9A19-DE88AC4E3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BA9DE-E259-44F5-8DCF-DF1E9E1A8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391A-CAB1-470F-89C1-CF6244210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umich.edu/~refjudg/index.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294920"/>
            <a:ext cx="891540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000000"/>
              </a:solidFill>
              <a:latin typeface="Times New Roman"/>
            </a:endParaRPr>
          </a:p>
        </p:txBody>
      </p:sp>
      <p:sp>
        <p:nvSpPr>
          <p:cNvPr id="49" name="PlaceHolder 2"/>
          <p:cNvSpPr>
            <a:spLocks noGrp="1"/>
          </p:cNvSpPr>
          <p:nvPr>
            <p:ph type="subTitle"/>
          </p:nvPr>
        </p:nvSpPr>
        <p:spPr>
          <a:xfrm>
            <a:off x="1447920" y="4419360"/>
            <a:ext cx="7223040" cy="579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000000"/>
              </a:solidFill>
              <a:latin typeface="Times New Roman"/>
            </a:endParaRPr>
          </a:p>
        </p:txBody>
      </p:sp>
      <p:sp>
        <p:nvSpPr>
          <p:cNvPr id="50" name="Text Box 4"/>
          <p:cNvSpPr/>
          <p:nvPr/>
        </p:nvSpPr>
        <p:spPr>
          <a:xfrm>
            <a:off x="6418440" y="6753240"/>
            <a:ext cx="375444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18960" y="2971800"/>
            <a:ext cx="764532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000000"/>
              </a:solidFill>
              <a:latin typeface="Times New Roman"/>
            </a:endParaRPr>
          </a:p>
        </p:txBody>
      </p:sp>
      <p:sp>
        <p:nvSpPr>
          <p:cNvPr id="76"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7" name="Oval 9"/>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0"/>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eyes"/>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1760" y="1981080"/>
            <a:ext cx="8762760" cy="51818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 disagree with authorities and you’re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 1980)</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000000"/>
              </a:solidFill>
              <a:latin typeface="Times New Roman"/>
            </a:endParaRPr>
          </a:p>
        </p:txBody>
      </p:sp>
      <p:sp>
        <p:nvSpPr>
          <p:cNvPr id="8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2" name="Oval 8"/>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9"/>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61760" y="2285640"/>
            <a:ext cx="8831160" cy="10414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000000"/>
              </a:solidFill>
              <a:latin typeface="Times New Roman"/>
            </a:endParaRPr>
          </a:p>
        </p:txBody>
      </p:sp>
      <p:pic>
        <p:nvPicPr>
          <p:cNvPr id="85" name="Picture 4" descr=""/>
          <p:cNvPicPr/>
          <p:nvPr/>
        </p:nvPicPr>
        <p:blipFill>
          <a:blip r:embed="rId1"/>
          <a:stretch/>
        </p:blipFill>
        <p:spPr>
          <a:xfrm>
            <a:off x="247680" y="3724200"/>
            <a:ext cx="3565440" cy="2819520"/>
          </a:xfrm>
          <a:prstGeom prst="rect">
            <a:avLst/>
          </a:prstGeom>
          <a:ln w="0">
            <a:noFill/>
          </a:ln>
        </p:spPr>
      </p:pic>
      <p:sp>
        <p:nvSpPr>
          <p:cNvPr id="8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4" descr="newyork"/>
          <p:cNvPicPr/>
          <p:nvPr/>
        </p:nvPicPr>
        <p:blipFill>
          <a:blip r:embed="rId2"/>
          <a:stretch/>
        </p:blipFill>
        <p:spPr>
          <a:xfrm>
            <a:off x="4724280" y="4648320"/>
            <a:ext cx="4734000" cy="71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749160" y="1996560"/>
            <a:ext cx="869976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000000"/>
              </a:solidFill>
              <a:latin typeface="Times New Roman"/>
            </a:endParaRPr>
          </a:p>
        </p:txBody>
      </p:sp>
      <p:sp>
        <p:nvSpPr>
          <p:cNvPr id="9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2"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228600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6"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2120"/>
            <a:ext cx="883908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 (Stages 4-5)</a:t>
            </a:r>
            <a:endParaRPr b="0" lang="en-US" sz="4900" spc="-1" strike="noStrike">
              <a:solidFill>
                <a:srgbClr val="000000"/>
              </a:solidFill>
              <a:latin typeface="Times New Roman"/>
            </a:endParaRPr>
          </a:p>
        </p:txBody>
      </p:sp>
      <p:sp>
        <p:nvSpPr>
          <p:cNvPr id="99" name="PlaceHolder 2"/>
          <p:cNvSpPr>
            <a:spLocks noGrp="1"/>
          </p:cNvSpPr>
          <p:nvPr>
            <p:ph type="subTitle"/>
          </p:nvPr>
        </p:nvSpPr>
        <p:spPr>
          <a:xfrm>
            <a:off x="749160" y="2514600"/>
            <a:ext cx="8661600" cy="44625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sies)</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3040" y="1912680"/>
            <a:ext cx="8691480" cy="5707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nnot know with certainty, and it’s NOT temporary; evidence might exist, but doesn’t offer certainty</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differentiation between knowledge and justification</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o separate beliefs, from </a:t>
            </a:r>
            <a:r>
              <a:rPr b="0" i="1" lang="en-US" sz="2800" spc="-1" strike="noStrike">
                <a:solidFill>
                  <a:srgbClr val="ffffff"/>
                </a:solidFill>
                <a:latin typeface="Arial"/>
              </a:rPr>
              <a:t>evidence</a:t>
            </a:r>
            <a:r>
              <a:rPr b="0" lang="en-US" sz="2800" spc="-1" strike="noStrike">
                <a:solidFill>
                  <a:srgbClr val="ffffff"/>
                </a:solidFill>
                <a:latin typeface="Arial"/>
              </a:rPr>
              <a:t> of those belief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willing to make judgments about others’ ideas/beliefs, but assume that others-- including authorities-- are biased</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that in some areas, knowledge will never be certain</a:t>
            </a:r>
            <a:endParaRPr b="0" lang="en-US" sz="2800" spc="-1" strike="noStrike">
              <a:solidFill>
                <a:srgbClr val="000000"/>
              </a:solidFill>
              <a:latin typeface="Times New Roman"/>
            </a:endParaRPr>
          </a:p>
        </p:txBody>
      </p:sp>
      <p:sp>
        <p:nvSpPr>
          <p:cNvPr id="101"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2"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560" y="1913040"/>
            <a:ext cx="4025880" cy="5402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a:t>
            </a:r>
            <a:r>
              <a:rPr b="0" i="1" lang="en-US" sz="2800" spc="-1" strike="noStrike">
                <a:solidFill>
                  <a:srgbClr val="ffffff"/>
                </a:solidFill>
                <a:latin typeface="Arial"/>
              </a:rPr>
              <a:t>People will come up with</a:t>
            </a:r>
            <a:r>
              <a:rPr b="0" i="1" lang="en-US" sz="2900" spc="-1" strike="noStrike">
                <a:solidFill>
                  <a:srgbClr val="ffffff"/>
                </a:solidFill>
                <a:latin typeface="Arial"/>
              </a:rPr>
              <a:t> different interpretations because people differ. Who are you going to ask? Because no one was there.”</a:t>
            </a:r>
            <a:endParaRPr b="0" lang="en-US" sz="2900" spc="-1" strike="noStrike">
              <a:solidFill>
                <a:srgbClr val="000000"/>
              </a:solidFill>
              <a:latin typeface="Times New Roman"/>
            </a:endParaRPr>
          </a:p>
        </p:txBody>
      </p:sp>
      <p:pic>
        <p:nvPicPr>
          <p:cNvPr id="105" name="Picture 4" descr=""/>
          <p:cNvPicPr/>
          <p:nvPr/>
        </p:nvPicPr>
        <p:blipFill>
          <a:blip r:embed="rId1"/>
          <a:stretch/>
        </p:blipFill>
        <p:spPr>
          <a:xfrm>
            <a:off x="4649760" y="2114640"/>
            <a:ext cx="5357880" cy="3543120"/>
          </a:xfrm>
          <a:prstGeom prst="rect">
            <a:avLst/>
          </a:prstGeom>
          <a:ln w="0">
            <a:noFill/>
          </a:ln>
        </p:spPr>
      </p:pic>
      <p:sp>
        <p:nvSpPr>
          <p:cNvPr id="106" name="Text Box 5"/>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7"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1760" y="1904760"/>
            <a:ext cx="8699400" cy="5546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is all </a:t>
            </a:r>
            <a:r>
              <a:rPr b="0" i="1" lang="en-US" sz="2800" spc="-1" strike="noStrike">
                <a:solidFill>
                  <a:srgbClr val="ffffff"/>
                </a:solidFill>
                <a:latin typeface="Arial"/>
              </a:rPr>
              <a:t>context - </a:t>
            </a:r>
            <a:r>
              <a:rPr b="0" lang="en-US" sz="2800" spc="-1" strike="noStrike">
                <a:solidFill>
                  <a:srgbClr val="ffffff"/>
                </a:solidFill>
                <a:latin typeface="Arial"/>
              </a:rPr>
              <a:t>subjective interpretations of evidence (“relativism”) --&gt; legitimately different conclusion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bstract mapping skills</a:t>
            </a:r>
            <a:r>
              <a:rPr b="0" lang="en-US" sz="2800" spc="-1" strike="noStrike">
                <a:solidFill>
                  <a:srgbClr val="ffffff"/>
                </a:solidFill>
                <a:latin typeface="Arial"/>
              </a:rPr>
              <a:t> - relating two abstractions (Fischer, 1980)</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more connected views; so a more balanced picture of issue/problem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of alternative theories, and that some evidence doesn’t support any particular one (Kuhn, 1989)</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ight”, “wrong” are inappropriate; it’s about interpretations…</a:t>
            </a:r>
            <a:endParaRPr b="0" lang="en-US" sz="2800" spc="-1" strike="noStrike">
              <a:solidFill>
                <a:srgbClr val="000000"/>
              </a:solidFill>
              <a:latin typeface="Times New Roman"/>
            </a:endParaRPr>
          </a:p>
        </p:txBody>
      </p:sp>
      <p:sp>
        <p:nvSpPr>
          <p:cNvPr id="11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49160" y="2336400"/>
            <a:ext cx="866160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000000"/>
              </a:solidFill>
              <a:latin typeface="Times New Roman"/>
            </a:endParaRPr>
          </a:p>
        </p:txBody>
      </p:sp>
      <p:sp>
        <p:nvSpPr>
          <p:cNvPr id="114"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5"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35100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796680" y="1873080"/>
            <a:ext cx="8566200" cy="51674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9160" y="727200"/>
            <a:ext cx="8699760" cy="1482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000000"/>
              </a:solidFill>
              <a:latin typeface="Times New Roman"/>
            </a:endParaRPr>
          </a:p>
        </p:txBody>
      </p:sp>
      <p:sp>
        <p:nvSpPr>
          <p:cNvPr id="118" name="PlaceHolder 2"/>
          <p:cNvSpPr>
            <a:spLocks noGrp="1"/>
          </p:cNvSpPr>
          <p:nvPr>
            <p:ph type="subTitle"/>
          </p:nvPr>
        </p:nvSpPr>
        <p:spPr>
          <a:xfrm>
            <a:off x="749160" y="2674440"/>
            <a:ext cx="866160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440" y="2286000"/>
            <a:ext cx="8852040" cy="45720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ing requires action on the part of the knower</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ll-structured problems need solutions that must be constructed &amp; evaluated by criteria - even for experts!</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ledge is uncertain</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jection of “right” and “wrong”… but one view may be better? </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ision based on compelling nature of evidence, not idiosyncratic reasoning (Stage 4)</a:t>
            </a:r>
            <a:endParaRPr b="0" lang="en-US" sz="2700" spc="-1" strike="noStrike">
              <a:solidFill>
                <a:srgbClr val="000000"/>
              </a:solidFill>
              <a:latin typeface="Times New Roman"/>
            </a:endParaRPr>
          </a:p>
        </p:txBody>
      </p:sp>
      <p:sp>
        <p:nvSpPr>
          <p:cNvPr id="12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64920" y="1913040"/>
            <a:ext cx="882972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000000"/>
              </a:solidFill>
              <a:latin typeface="Times New Roman"/>
            </a:endParaRPr>
          </a:p>
        </p:txBody>
      </p:sp>
      <p:pic>
        <p:nvPicPr>
          <p:cNvPr id="124" name="Picture 4" descr=""/>
          <p:cNvPicPr/>
          <p:nvPr/>
        </p:nvPicPr>
        <p:blipFill>
          <a:blip r:embed="rId1"/>
          <a:stretch/>
        </p:blipFill>
        <p:spPr>
          <a:xfrm>
            <a:off x="7299360" y="4076640"/>
            <a:ext cx="1593720" cy="3009960"/>
          </a:xfrm>
          <a:prstGeom prst="rect">
            <a:avLst/>
          </a:prstGeom>
          <a:ln w="0">
            <a:noFill/>
          </a:ln>
        </p:spPr>
      </p:pic>
      <p:pic>
        <p:nvPicPr>
          <p:cNvPr id="125" name="Picture 8" descr=""/>
          <p:cNvPicPr/>
          <p:nvPr/>
        </p:nvPicPr>
        <p:blipFill>
          <a:blip r:embed="rId2"/>
          <a:stretch/>
        </p:blipFill>
        <p:spPr>
          <a:xfrm>
            <a:off x="1647720" y="4038480"/>
            <a:ext cx="1470240" cy="3114720"/>
          </a:xfrm>
          <a:prstGeom prst="rect">
            <a:avLst/>
          </a:prstGeom>
          <a:ln w="0">
            <a:noFill/>
          </a:ln>
        </p:spPr>
      </p:pic>
      <p:sp>
        <p:nvSpPr>
          <p:cNvPr id="12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9160" y="2251080"/>
            <a:ext cx="8699760" cy="4759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lang="en-US" sz="2900" spc="-1" strike="noStrike">
                <a:solidFill>
                  <a:srgbClr val="ffffff"/>
                </a:solidFill>
                <a:latin typeface="Arial"/>
              </a:rPr>
              <a:t>Abstract internal referent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 a given, but interpretations can be synthesized</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9160" y="190512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000000"/>
              </a:solidFill>
              <a:latin typeface="Times New Roman"/>
            </a:endParaRPr>
          </a:p>
        </p:txBody>
      </p:sp>
      <p:pic>
        <p:nvPicPr>
          <p:cNvPr id="134" name="Picture 7" descr=""/>
          <p:cNvPicPr/>
          <p:nvPr/>
        </p:nvPicPr>
        <p:blipFill>
          <a:blip r:embed="rId1"/>
          <a:stretch/>
        </p:blipFill>
        <p:spPr>
          <a:xfrm>
            <a:off x="819000" y="5514840"/>
            <a:ext cx="2279880" cy="1457640"/>
          </a:xfrm>
          <a:prstGeom prst="rect">
            <a:avLst/>
          </a:prstGeom>
          <a:ln w="0">
            <a:noFill/>
          </a:ln>
        </p:spPr>
      </p:pic>
      <p:sp>
        <p:nvSpPr>
          <p:cNvPr id="135"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6"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743200"/>
            <a:ext cx="86108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JI Problem #3 - “Creation/Evolu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1142640"/>
            <a:ext cx="8763120" cy="6172200"/>
          </a:xfrm>
          <a:prstGeom prst="rect">
            <a:avLst/>
          </a:prstGeom>
          <a:noFill/>
          <a:ln w="0">
            <a:noFill/>
          </a:ln>
        </p:spPr>
        <p:txBody>
          <a:bodyPr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r>
              <a:rPr b="0" lang="en-US" sz="4200" spc="-1" strike="noStrike">
                <a:solidFill>
                  <a:srgbClr val="ffffff"/>
                </a:solidFill>
                <a:latin typeface="Arial"/>
              </a:rPr>
              <a:t>Many religions of the world have creation stories.  These stories suggest that a divine being created the earth and its people.  Scientists claim, however, that people evolved from lower animal forms (some of which are similar to apes) into the human forms known today.”</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96680" y="151920"/>
            <a:ext cx="8566200" cy="117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graphicFrame>
        <p:nvGraphicFramePr>
          <p:cNvPr id="141" name="Object 5"/>
          <p:cNvGraphicFramePr/>
          <p:nvPr/>
        </p:nvGraphicFramePr>
        <p:xfrm>
          <a:off x="2260440" y="1066680"/>
          <a:ext cx="5639040" cy="6301080"/>
        </p:xfrm>
        <a:graphic>
          <a:graphicData uri="http://schemas.openxmlformats.org/presentationml/2006/ole">
            <p:oleObj progId="Excel.Sheet.12" r:id="rId1" spid="">
              <p:embed/>
              <p:pic>
                <p:nvPicPr>
                  <p:cNvPr id="142" name="Object 5" descr=""/>
                  <p:cNvPicPr/>
                  <p:nvPr/>
                </p:nvPicPr>
                <p:blipFill>
                  <a:blip r:embed="rId2"/>
                  <a:stretch/>
                </p:blipFill>
                <p:spPr>
                  <a:xfrm>
                    <a:off x="2260440" y="1066680"/>
                    <a:ext cx="5639040" cy="630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sp>
        <p:nvSpPr>
          <p:cNvPr id="144" name="Rectangle 3"/>
          <p:cNvSpPr/>
          <p:nvPr/>
        </p:nvSpPr>
        <p:spPr>
          <a:xfrm>
            <a:off x="1143000" y="22860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isciplinary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on-student adul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Gender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Differ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eisser Relation</a:t>
            </a:r>
            <a:endParaRPr b="0" lang="en-US" sz="4900" spc="-1" strike="noStrike">
              <a:solidFill>
                <a:srgbClr val="000000"/>
              </a:solidFill>
              <a:latin typeface="Times New Roman"/>
            </a:endParaRPr>
          </a:p>
        </p:txBody>
      </p:sp>
      <p:sp>
        <p:nvSpPr>
          <p:cNvPr id="146" name="PlaceHolder 2"/>
          <p:cNvSpPr>
            <a:spLocks noGrp="1"/>
          </p:cNvSpPr>
          <p:nvPr>
            <p:ph type="subTitle"/>
          </p:nvPr>
        </p:nvSpPr>
        <p:spPr>
          <a:xfrm>
            <a:off x="837720" y="1752120"/>
            <a:ext cx="7829640" cy="2279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ving through autonomy toward interdepend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000000"/>
              </a:solidFill>
              <a:latin typeface="Times New Roman"/>
            </a:endParaRPr>
          </a:p>
        </p:txBody>
      </p:sp>
      <p:pic>
        <p:nvPicPr>
          <p:cNvPr id="147" name="Picture 4" descr=""/>
          <p:cNvPicPr/>
          <p:nvPr/>
        </p:nvPicPr>
        <p:blipFill>
          <a:blip r:embed="rId1"/>
          <a:stretch/>
        </p:blipFill>
        <p:spPr>
          <a:xfrm>
            <a:off x="5562720" y="4038480"/>
            <a:ext cx="4251240" cy="31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66200" y="1951200"/>
            <a:ext cx="518796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000000"/>
              </a:solidFill>
              <a:latin typeface="Times New Roman"/>
            </a:endParaRPr>
          </a:p>
        </p:txBody>
      </p:sp>
      <p:pic>
        <p:nvPicPr>
          <p:cNvPr id="55" name="Picture 4" descr=""/>
          <p:cNvPicPr/>
          <p:nvPr/>
        </p:nvPicPr>
        <p:blipFill>
          <a:blip r:embed="rId1"/>
          <a:stretch/>
        </p:blipFill>
        <p:spPr>
          <a:xfrm>
            <a:off x="5908680" y="2562120"/>
            <a:ext cx="3898800" cy="3038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000000"/>
              </a:solidFill>
              <a:latin typeface="Times New Roman"/>
            </a:endParaRPr>
          </a:p>
        </p:txBody>
      </p:sp>
      <p:sp>
        <p:nvSpPr>
          <p:cNvPr id="149" name="PlaceHolder 2"/>
          <p:cNvSpPr>
            <a:spLocks noGrp="1"/>
          </p:cNvSpPr>
          <p:nvPr>
            <p:ph/>
          </p:nvPr>
        </p:nvSpPr>
        <p:spPr>
          <a:xfrm>
            <a:off x="761760" y="2362320"/>
            <a:ext cx="8636040" cy="4573440"/>
          </a:xfrm>
          <a:prstGeom prst="rect">
            <a:avLst/>
          </a:prstGeom>
          <a:noFill/>
          <a:ln w="0">
            <a:noFill/>
          </a:ln>
        </p:spPr>
        <p:txBody>
          <a:bodyPr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only by (1) country?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mographics - location/geograp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6680" y="502920"/>
            <a:ext cx="8499240" cy="1020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
        <p:nvSpPr>
          <p:cNvPr id="151" name="Rectangle 4"/>
          <p:cNvSpPr/>
          <p:nvPr/>
        </p:nvSpPr>
        <p:spPr>
          <a:xfrm>
            <a:off x="609480" y="3276720"/>
            <a:ext cx="883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I</a:t>
            </a:r>
            <a:r>
              <a:rPr b="0" lang="en-US" sz="2800" spc="-1" strike="noStrike">
                <a:solidFill>
                  <a:srgbClr val="ffffff"/>
                </a:solidFill>
                <a:latin typeface="Times New Roman"/>
              </a:rPr>
              <a:t>n the final analysis, the challenge of college, for students and faculty members alike, is empowering individuals to know that the world is far more complex than it first appears, and that they must make interpretative arguments and decisions—judgments that entail real consequences for which they must take responsibility and from which they may not flee by disclaiming expertise.” (Chapter 9, p. 222)</a:t>
            </a:r>
            <a:endParaRPr b="0" lang="en-US" sz="2800" spc="-1" strike="noStrike">
              <a:solidFill>
                <a:srgbClr val="000000"/>
              </a:solidFill>
              <a:latin typeface="Times New Roman"/>
            </a:endParaRPr>
          </a:p>
        </p:txBody>
      </p:sp>
      <p:sp>
        <p:nvSpPr>
          <p:cNvPr id="152" name="Rectangle 5"/>
          <p:cNvSpPr/>
          <p:nvPr/>
        </p:nvSpPr>
        <p:spPr>
          <a:xfrm>
            <a:off x="609480" y="16002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T</a:t>
            </a:r>
            <a:r>
              <a:rPr b="0" lang="en-US" sz="2800" spc="-1" strike="noStrike">
                <a:solidFill>
                  <a:srgbClr val="ffffff"/>
                </a:solidFill>
                <a:latin typeface="Times New Roman"/>
              </a:rPr>
              <a:t>eaching students to engage in reflective thinking and to make reflective judgments about vexing problems is a central goal of higher education.” (Chapter 9, p. 22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762120" y="1676520"/>
            <a:ext cx="8686800" cy="533376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w respect for students' assumptions, regardless of the developmental stage(s) they exhibit.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scuss controversial, ill-structured issues with students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ate many opportunities for students to analyze others' points of view</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ach students strategies for systematically gathering &amp; assessing the relevance of data, &amp; evaluating its sources, and making interpretive judgments based on i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e feedback &amp; provide both cognitive and emotional suppor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lp to address issues of uncertainty in judgment-making &amp; to examine their assumptions about knowledge</a:t>
            </a: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154" name="Rectangle 13"/>
          <p:cNvSpPr/>
          <p:nvPr/>
        </p:nvSpPr>
        <p:spPr>
          <a:xfrm>
            <a:off x="797040" y="503280"/>
            <a:ext cx="8499240" cy="10206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797040" y="503280"/>
            <a:ext cx="856620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000000"/>
              </a:solidFill>
              <a:latin typeface="Times New Roman"/>
            </a:endParaRPr>
          </a:p>
        </p:txBody>
      </p:sp>
      <p:sp>
        <p:nvSpPr>
          <p:cNvPr id="156" name="PlaceHolder 1"/>
          <p:cNvSpPr>
            <a:spLocks noGrp="1"/>
          </p:cNvSpPr>
          <p:nvPr>
            <p:ph/>
          </p:nvPr>
        </p:nvSpPr>
        <p:spPr>
          <a:xfrm>
            <a:off x="761760" y="1599840"/>
            <a:ext cx="8636040" cy="5173560"/>
          </a:xfrm>
          <a:prstGeom prst="rect">
            <a:avLst/>
          </a:prstGeom>
          <a:noFill/>
          <a:ln w="0">
            <a:noFill/>
          </a:ln>
        </p:spPr>
        <p:txBody>
          <a:bodyPr anchor="t">
            <a:normAutofit fontScale="99000"/>
          </a:bodyPr>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scher, K.W. (1980). A theory of cognitive development: The        control and construction of hierarchies of skills. Psychological     Review, 87(6), 477-531. </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Reflective Judgment.  Retrieved January 26, 2009        from </a:t>
            </a:r>
            <a:r>
              <a:rPr b="0" lang="en-US" sz="2200" spc="-1" strike="noStrike" u="sng">
                <a:solidFill>
                  <a:srgbClr val="ccccff"/>
                </a:solidFill>
                <a:uFillTx/>
                <a:latin typeface="Arial"/>
                <a:hlinkClick r:id="rId1"/>
              </a:rPr>
              <a:t>http://www.umich.edu/~refjudg/index.html</a:t>
            </a:r>
            <a:r>
              <a:rPr b="0" lang="en-US" sz="2200" spc="-1" strike="noStrike">
                <a:solidFill>
                  <a:srgbClr val="ffffff"/>
                </a:solidFill>
                <a:latin typeface="Arial"/>
              </a:rPr>
              <a:t>.</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and Kitchener, K.S. (1994). Developing Reflective        Judgment.  San Francisco: Jossey-Bass.</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uhn, D. (1989). "Children and Adults as Intuitive Scientists."        Psychological Review, 96, pp. 674-689.</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ry, W.G., Jr. (1970). Forms of Intellectual and Ethical        Development in the College Years: A Scheme.  Troy, MO:</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Holt, Rinehart &amp; Winst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96680" y="2746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000000"/>
              </a:solidFill>
              <a:latin typeface="Times New Roman"/>
            </a:endParaRPr>
          </a:p>
        </p:txBody>
      </p:sp>
      <p:graphicFrame>
        <p:nvGraphicFramePr>
          <p:cNvPr id="57" name="Object 5"/>
          <p:cNvGraphicFramePr/>
          <p:nvPr/>
        </p:nvGraphicFramePr>
        <p:xfrm>
          <a:off x="431640" y="1492200"/>
          <a:ext cx="8915400" cy="5380200"/>
        </p:xfrm>
        <a:graphic>
          <a:graphicData uri="http://schemas.openxmlformats.org/presentationml/2006/ole">
            <p:oleObj progId="Excel.Sheet.12" r:id="rId1" spid="">
              <p:embed/>
              <p:pic>
                <p:nvPicPr>
                  <p:cNvPr id="58" name="Object 5"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3"/>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4"/>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61" name="Oval 5"/>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62" name="Line 6"/>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Rectangle 8"/>
          <p:cNvSpPr/>
          <p:nvPr/>
        </p:nvSpPr>
        <p:spPr>
          <a:xfrm>
            <a:off x="797040" y="426960"/>
            <a:ext cx="8566200" cy="11797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796680" y="1798560"/>
            <a:ext cx="856620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91760" y="2179800"/>
            <a:ext cx="6762600" cy="4403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000000"/>
              </a:solidFill>
              <a:latin typeface="Times New Roman"/>
            </a:endParaRPr>
          </a:p>
        </p:txBody>
      </p:sp>
      <p:pic>
        <p:nvPicPr>
          <p:cNvPr id="68" name="Picture 4" descr=""/>
          <p:cNvPicPr/>
          <p:nvPr/>
        </p:nvPicPr>
        <p:blipFill>
          <a:blip r:embed="rId1"/>
          <a:stretch/>
        </p:blipFill>
        <p:spPr>
          <a:xfrm>
            <a:off x="7203960" y="2514600"/>
            <a:ext cx="22989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9160" y="727200"/>
            <a:ext cx="874584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762120" y="2514240"/>
            <a:ext cx="8610480" cy="4876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use evidence to reason toward a conclusion; reasons don’t appear logically connected to the issue</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3400" y="1996920"/>
            <a:ext cx="866160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rete, single-category belief system</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 copied, absolute &amp; predetermin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amp; belief aren’t distinguish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ntroversies, criticisms, doubt</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n’t know how to respond when faced w/ ill-structured problems</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osed framework</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single representational skill” (Fischer, 1980)</a:t>
            </a:r>
            <a:endParaRPr b="0" lang="en-US" sz="3000" spc="-1" strike="noStrike">
              <a:solidFill>
                <a:srgbClr val="000000"/>
              </a:solidFill>
              <a:latin typeface="Times New Roman"/>
            </a:endParaRPr>
          </a:p>
        </p:txBody>
      </p:sp>
      <p:sp>
        <p:nvSpPr>
          <p:cNvPr id="72"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3"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chael Montgomery</cp:lastModifiedBy>
  <cp:lastPrinted>2009-03-15T20:50:55Z</cp:lastPrinted>
  <dcterms:modified xsi:type="dcterms:W3CDTF">2009-03-16T19:04:05Z</dcterms:modified>
  <cp:revision>15</cp:revision>
  <dc:subject/>
  <dc:title>PowerPoint Presentation</dc:title>
</cp:coreProperties>
</file>